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16FC-CF56-4039-99D4-4F9A50DE01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DC3C-7AE9-4A07-AB37-B5EC6EBE49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ACE2-E822-47DF-B265-7C49C6CCC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2215-3A53-442E-99D8-169282571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51FA-884F-4306-B771-D40D3A38D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B9CF-B49D-4A01-88DD-219DCA659F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E06E-F4F2-4B29-B77D-1976BEBA1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68F-998A-46C6-818D-E1A94B3A80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7B2A-D065-41AF-8EAA-6581FFE84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D450-12E7-4218-BCDD-2B52737C2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57DB-16FE-4B4D-9820-D65F4ECC57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46ED-869D-496E-9164-4DAB657202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9671-F05A-4B3B-AC2A-7E43805718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D720-A187-40B6-8DF3-67E9E1AAB0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B656-85A7-4017-BE5D-3766770349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167D-66C2-44A5-B320-14AB454703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9629-76FD-4EAA-87F2-43E384E5A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F8E-A08F-4940-89C7-9861B5902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BF4-ADF4-42D3-8C32-E9CF39A74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7F97-DC52-4BE8-8639-90DDB5752C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C6CD-5D19-47DF-943F-19A6778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C912-5DD9-41D4-B5CA-52D08687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B68B7-3139-494B-B556-63F46F7CFD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83EF7-F484-42CB-8012-52258E3485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CAA30-353C-4F0B-B7AF-DB0EC267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77886-CDBA-4910-9FA9-B781FD39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95D8-D927-4EBB-B0AF-89025E1C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6CDDC-2F0A-4E7A-99D9-0BD05057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999FC-CEED-4A40-BFF1-EDA26EF4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B6B15-4EBC-41ED-AA88-C027E10F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30CB-87E7-4DE3-BEC5-3E5397CA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7376C-DA1A-40E4-8F9D-1A199C7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1F019-7759-46C8-A0C0-0A6775BF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1B81B-EF0B-45DE-869C-2EECDAFD1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88D0F-B4E8-40B1-879C-3753C9A2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3669F-B568-4C05-B7AC-3EC8CC2214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5067-5426-4439-9988-D4C4A29683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4DBC-658F-4646-981D-8E34472F17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0A61-8579-433D-9F54-47E96414CD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B92A-F70E-4E8D-B72D-F085D8EBB1F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575D-E8E8-4916-9DD5-563CF97D34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E159F-EA77-4D9F-9C16-03FFFE36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9F93-7561-444A-9972-7AB793A69F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11C7-F0B0-4C32-B90F-D38F577EAE9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52B6-48B9-4B61-8533-CF778E32D1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4820-1AEF-42D1-B315-BF3C10419A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16AE-1CB0-46DC-9D77-918217A856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81A0-9387-4D4C-AA10-6BB1173E10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0787-3EDB-4B8D-805A-AF6798E64E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557C2-D7E6-4CCB-BB40-20294330F8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A5328A-8A82-442A-9626-EA136D17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E08FA6-8CF9-413B-B9C0-B5351DF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10C9-5666-4C95-AC19-5B00A7C6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4C399-AD5D-404F-8D0A-7208AD0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50D48-B068-4DB9-9056-B086FA7C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99BCE4-E2BE-4A8A-A7F6-9D8BB5194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FC92C-1D3F-4504-8A4F-3B7796AE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6B6C3C-5644-4ACA-ABF8-07CBBDD2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EE2B5-0797-4F90-BADD-3DF2E56A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8D67A-1826-4A0B-898A-197B587E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DFAE8-D1F3-410F-87DB-62FF2849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2E69D-4AE4-4948-A5C3-CD4E73B65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9C470-DD66-40FC-8DFC-DB01FEA64F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02A3F-3691-4E32-80C1-40A5E98E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1F9F4C-9E24-4768-BEEA-A9F67331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2B4E2-286D-4744-893D-9BDCA108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772DF6-4266-492C-A9A0-A713991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21182D-BD99-4964-BFE1-B575C5D5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DE19AE-55C9-4B2B-82A7-3AF8090E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92470F-1E63-4567-AFA2-6A527A22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D527B-BBA3-43BA-AAD9-2F3AB9A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86D2A-4E50-4A1D-BEBE-D41189FB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2CE13-3CFE-4A4C-B73A-A7127022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E65AD-31AC-4104-9E3D-06B06DD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B7EE4-42D2-429A-BD8E-668E2BC4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45577-7311-4240-BA5D-36499CEDE3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FC54C-8334-4154-A248-2A5DA9BC31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6DC84-80E5-4FFE-8F89-25224D0F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DAFCE-F8AD-42B4-B3E1-F0DD0E2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D7DC5-75D5-4C40-B2DB-BF96CBA8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B764-3EB1-4CFA-949A-6A091462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9595C-BA7E-43B9-B07C-D91B43B7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15F35-64AD-4F6F-ADAD-6B5C8A15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74F80-D8CD-4CD4-981A-2CE68422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B8FF5-9E33-4E42-8BA4-39A6273F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74896-B202-4A31-A715-4524D9EB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CFB7-BCD7-4792-A8DD-A988FE15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BA89-92C1-4A4C-A4FE-C8309275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05E7-7216-461D-9E3E-1B1F24FD6D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2672-13CF-4572-8F23-A6D1F109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887B2-7B26-4FCE-ACC1-A9B338ED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23990-CBF9-40A1-AD64-C6CD2B58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C26DC-FE03-43B5-9F20-8CF16CA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F3171-FB3E-4F81-904D-1942F321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26E2-F6A7-4C37-8AAF-2A78C8F8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EFE49-B310-462C-A8B2-C1B69FF7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B668F-1AA8-456E-81AB-60D58ACB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982E9-B74C-40AC-8B5A-883C740B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117B-18E1-4BB8-B8A4-33D07D69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803B5-B4DD-4490-9D07-96A893E5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90C279-B5D1-4E0C-83F2-CAEFBBD9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81832-2777-4B52-AEE3-0DF177622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6CC5A-3845-4264-BA5A-B9BCB4591E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45752-FD50-42E4-84FC-ECA6F568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367DF5-9A77-4C95-A10E-E1988E5C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B7A0AE-E052-48AC-AAA5-8455312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B98DDB-D323-409A-874A-0438A1EF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1B694-9542-45D9-91D6-C4AE2A3F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16F4D-711D-4BB9-9F69-6B095796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63213B-31FD-4FC8-B166-8A7A783B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6AB67-FE61-4DDA-907A-C3671852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B4A9B-023F-4FAB-ADA5-D38712AE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B3EC5-3902-4495-A65F-97E911E6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19118-0D1C-4B74-84E3-069B35B3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E53F8-F5E5-48C2-9FD6-BC4E6BEE2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BC26-5DE6-4E0E-96A3-0A34C8852F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4AD2-C156-49E1-9EE6-387AAC9F74E8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6781680" y="5918040"/>
            <a:ext cx="1905120" cy="787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990720" y="6324120"/>
            <a:ext cx="3504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4572000" y="6324120"/>
            <a:ext cx="380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CA80-2BDE-4C53-95F0-1FE454935C8B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1016-211A-48B6-8382-0C8ADF0056F5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0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32D1-327C-4A53-A06E-3194036EECD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3F1E-6E4B-45A3-90E2-9E7A42ED41E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cbcbc"/>
                </a:solidFill>
                <a:latin typeface="Times New Roman"/>
              </a:rPr>
              <a:t>Skinner, Halbert &amp; Schultz 02/17/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A559-BB67-4BA5-86FD-E679720E5F9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84b7e2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84b7e2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a5ab81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d8b25c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7ba79d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7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5B8C-7E68-4D5E-9E26-B4150077221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mailto:katherine.skinner@metaarchive.org" TargetMode="External"/><Relationship Id="rId3" Type="http://schemas.openxmlformats.org/officeDocument/2006/relationships/hyperlink" Target="mailto:Martin.halbert@unt.edu" TargetMode="External"/><Relationship Id="rId4" Type="http://schemas.openxmlformats.org/officeDocument/2006/relationships/hyperlink" Target="mailto:Matt.schultz@metaarchive.org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762120" y="129852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Katherine Skinner, Martin Halbert &amp; Matt Schultz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ducopia Institute and MetaArchive Coopera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762120" y="541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NDSA Infrastructure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rbel"/>
              </a:rPr>
              <a:t>02-17-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 txBox="1"/>
          <p:nvPr/>
        </p:nvSpPr>
        <p:spPr>
          <a:xfrm>
            <a:off x="457200" y="177300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prepar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ographical Distribu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it Integrity Check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Versio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stricted View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tent Restor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Slide Number Placeholder 5"/>
          <p:cNvSpPr/>
          <p:nvPr/>
        </p:nvSpPr>
        <p:spPr>
          <a:xfrm>
            <a:off x="4143240" y="632448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5AA-6DC5-40CD-B2B2-55C2DC2E0E57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-360" y="1676160"/>
            <a:ext cx="883908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mpleted self-audit with external auditor in 2010 (see </a:t>
            </a:r>
            <a:r>
              <a:rPr b="0" lang="en-US" sz="2800" spc="-1" strike="noStrike">
                <a:solidFill>
                  <a:srgbClr val="355d7e"/>
                </a:solidFill>
                <a:latin typeface="Corbel"/>
              </a:rPr>
              <a:t>http://metaarchive.org/resource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taArchive successfully conforms in all 3 categories and 84 criteri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ustworthy digital repository”…ensures that processes and policies and workflows meet the standard for long-term preserv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elped us identify places where we could improve our policies and documenta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FA90-8E2E-4CDB-9CA3-65AF2090FFDC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 txBox="1"/>
          <p:nvPr/>
        </p:nvSpPr>
        <p:spPr>
          <a:xfrm>
            <a:off x="-360" y="1676160"/>
            <a:ext cx="883908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RAC audit also showed us the need for articulating DDP in OAIS terms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ridging terminolog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panding on functional are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Describing roles and responsibilit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re topic of PLN 2010 Conferenc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orking Group formed: Library of Congress, LOCKSS, DataPASS, PeDALS, and MetaArch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8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7DB0-5E8A-4D23-88A2-E7C0009742AC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-360" y="1676160"/>
            <a:ext cx="883908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t another Reference Mode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bstraction of OAIS – similar to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AIM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Describing a Framework for Applying OAIS to DDP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1-2 Year Project – Three Phas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Research &amp; Recruitment: GAP Analysis White Paper (OAIS Section 6 &amp; Use Case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Production: Collaborative drafting of Framework (modeled on PAIMAS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rbel"/>
              </a:rPr>
              <a:t>Dissemination: Submission to CCSDS and promotion in the DP commun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1E56-4419-42AB-A24D-80DCA35EA6B8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 txBox="1"/>
          <p:nvPr/>
        </p:nvSpPr>
        <p:spPr>
          <a:xfrm>
            <a:off x="-360" y="1676160"/>
            <a:ext cx="883908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nded Outcom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1199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nlarging the community’s understanding of distributed digital preservation concepts &amp; approach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Guidance on trustworthy digital preservation activities for DDP developers &amp; practition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a5ab81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ffectiveness for auditing DDP preservation solu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2B52-F126-487A-90EB-A87672E64840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57200" y="16761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alance of flexibility and fragilit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rong organizational cen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mited dependence on any one memb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ve model for long-term preserv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eographic diversity/distrib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xpertise diffus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intain cost-effective, in-house op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Footer Placeholder 3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B140-8519-489D-9355-6B791084DF59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 txBox="1"/>
          <p:nvPr/>
        </p:nvSpPr>
        <p:spPr>
          <a:xfrm>
            <a:off x="457200" y="16761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tsourcing core services = risky proposi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re mission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uilding colle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isseminating colle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erving colle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annot focus on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collection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t the expense of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servic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… need both in order to carry our missions and memory forwar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AB32-863D-4BFF-BEBD-96D6A68C8724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 txBox="1"/>
          <p:nvPr/>
        </p:nvSpPr>
        <p:spPr>
          <a:xfrm>
            <a:off x="457200" y="16761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Katherine Skinn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b615"/>
                </a:solidFill>
                <a:uFillTx/>
                <a:latin typeface="Corbel"/>
                <a:hlinkClick r:id="rId2"/>
              </a:rPr>
              <a:t>katherine.skinner@metaarchive.or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. Martin Halber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b615"/>
                </a:solidFill>
                <a:uFillTx/>
                <a:latin typeface="Corbel"/>
                <a:hlinkClick r:id="rId3"/>
              </a:rPr>
              <a:t>Martin.halbert@unt.edu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tt Schultz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7b615"/>
                </a:solidFill>
                <a:uFillTx/>
                <a:latin typeface="Corbel"/>
                <a:hlinkClick r:id="rId4"/>
              </a:rPr>
              <a:t>Matt.schultz@metaarchive.org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8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BBCC-D487-4B6F-8DFE-06A3F38DB8CE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684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spcAft>
                <a:spcPts val="1199"/>
              </a:spcAft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distributed digital preservation cooperative for digital archives, based on LOCKSS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spcAft>
                <a:spcPts val="1199"/>
              </a:spcAft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86 TB network with 24 secure cach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spcAft>
                <a:spcPts val="1199"/>
              </a:spcAft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eserving collections for/with 18 members and 46 institutions in 4 countri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spcAft>
                <a:spcPts val="1199"/>
              </a:spcAft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tively growing (4 new members this fall, including two consortia with 30 member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spcAft>
                <a:spcPts val="1199"/>
              </a:spcAft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vide preservation consulting and train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8534520" cy="762120"/>
          </a:xfrm>
          <a:prstGeom prst="rect">
            <a:avLst/>
          </a:prstGeom>
          <a:ln w="0">
            <a:noFill/>
          </a:ln>
        </p:spPr>
      </p:pic>
      <p:sp>
        <p:nvSpPr>
          <p:cNvPr id="352" name="Slide Number Placeholder 5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2949-BF6E-48D8-84CF-D5C96240C10F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5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457200" y="16761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Founded on the premise that cultural memory organizations should maintain their historical role as cultural steward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reservation of digital assets as corollary to preserving physical on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Need in house expertise and knowledg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Value of curators and librarians and archivist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hose technical and organizational infrastructure that capitalizes on cultural memory organization’s proven methodologie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Distributed preservatio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499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Partnership to keep costing affordabl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8534520" cy="76212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5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C665-F861-4212-A490-A7E4257F5B8B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5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16761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atible with any repository/content management syst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ree membership leve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ervation members: $3,000K/y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staining members: $5,500K/y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86160" indent="-25632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llaborative members: $2,500/yr plus $100/yr per participating institu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rver cost: $4,600/3 y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orage cost: $1/GB/y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7200" y="384120"/>
            <a:ext cx="8534520" cy="76212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4569-45AC-49BA-80A0-4D176FB7D393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-360" y="1676160"/>
            <a:ext cx="883908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Undertake a 3-year membership term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ake responsibility for content preparation, evaluation, staging, and plugin developmen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st and maintain a MetaArchive cach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1F35-3E75-416B-890A-1ED23CD6EE63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0" y="167616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vises, assists, and evaluates member plugins/collections to ensure accurate ingest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Hosts centralized infrastructure for the network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onitors network and content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vides ongoing reports to member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forms format migrations when needed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trieval of member content on dem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dd8047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4572000" y="6324480"/>
            <a:ext cx="3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7753-D23D-4C68-96DF-C22590CBDB33}" type="slidenum">
              <a:rPr b="0" lang="en-US" sz="14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990720" y="6324480"/>
            <a:ext cx="350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kinner, Halbert &amp; Schultz 02/17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71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4C77-F92A-4220-BB9C-5445637563D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1836720" y="25542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84"/>
          <p:cNvSpPr/>
          <p:nvPr/>
        </p:nvSpPr>
        <p:spPr>
          <a:xfrm>
            <a:off x="990720" y="1981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collaborates with MetaArchive staff to prepare content from any framework (e.g. Dspace, Fedora, CONTENTdm, ETDdb, etc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8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647640" cy="5209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"/>
          <p:cNvPicPr/>
          <p:nvPr/>
        </p:nvPicPr>
        <p:blipFill>
          <a:blip r:embed="rId3"/>
          <a:stretch/>
        </p:blipFill>
        <p:spPr>
          <a:xfrm>
            <a:off x="1981080" y="2666880"/>
            <a:ext cx="648000" cy="520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"/>
          <p:cNvPicPr/>
          <p:nvPr/>
        </p:nvPicPr>
        <p:blipFill>
          <a:blip r:embed="rId4"/>
          <a:stretch/>
        </p:blipFill>
        <p:spPr>
          <a:xfrm>
            <a:off x="4152960" y="2666880"/>
            <a:ext cx="647640" cy="520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648000" cy="5209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75"/>
          <p:cNvSpPr/>
          <p:nvPr/>
        </p:nvSpPr>
        <p:spPr>
          <a:xfrm>
            <a:off x="914400" y="3160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ingests content into a test network where it is extensively tested for web-crawl accuracy before it is released for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8" descr=""/>
          <p:cNvPicPr/>
          <p:nvPr/>
        </p:nvPicPr>
        <p:blipFill>
          <a:blip r:embed="rId6"/>
          <a:stretch/>
        </p:blipFill>
        <p:spPr>
          <a:xfrm>
            <a:off x="1943280" y="54864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7"/>
          <a:stretch/>
        </p:blipFill>
        <p:spPr>
          <a:xfrm>
            <a:off x="4114800" y="54864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"/>
          <p:cNvPicPr/>
          <p:nvPr/>
        </p:nvPicPr>
        <p:blipFill>
          <a:blip r:embed="rId8"/>
          <a:stretch/>
        </p:blipFill>
        <p:spPr>
          <a:xfrm>
            <a:off x="6286680" y="54864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" descr=""/>
          <p:cNvPicPr/>
          <p:nvPr/>
        </p:nvPicPr>
        <p:blipFill>
          <a:blip r:embed="rId9"/>
          <a:stretch/>
        </p:blipFill>
        <p:spPr>
          <a:xfrm>
            <a:off x="838080" y="548640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"/>
          <p:cNvPicPr/>
          <p:nvPr/>
        </p:nvPicPr>
        <p:blipFill>
          <a:blip r:embed="rId10"/>
          <a:stretch/>
        </p:blipFill>
        <p:spPr>
          <a:xfrm>
            <a:off x="3009960" y="54864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"/>
          <p:cNvPicPr/>
          <p:nvPr/>
        </p:nvPicPr>
        <p:blipFill>
          <a:blip r:embed="rId11"/>
          <a:stretch/>
        </p:blipFill>
        <p:spPr>
          <a:xfrm>
            <a:off x="5181480" y="548640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8" descr=""/>
          <p:cNvPicPr/>
          <p:nvPr/>
        </p:nvPicPr>
        <p:blipFill>
          <a:blip r:embed="rId12"/>
          <a:stretch/>
        </p:blipFill>
        <p:spPr>
          <a:xfrm>
            <a:off x="7315200" y="5486400"/>
            <a:ext cx="647640" cy="520560"/>
          </a:xfrm>
          <a:prstGeom prst="rect">
            <a:avLst/>
          </a:prstGeom>
          <a:ln w="0">
            <a:noFill/>
          </a:ln>
        </p:spPr>
      </p:pic>
      <p:sp>
        <p:nvSpPr>
          <p:cNvPr id="386" name="TextBox 83"/>
          <p:cNvSpPr/>
          <p:nvPr/>
        </p:nvSpPr>
        <p:spPr>
          <a:xfrm>
            <a:off x="914400" y="44197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r and MetaArchive staff agree that the content is ready for ingest. MetaArchive staff select 7 caches for preservation replications (based on geographical dispersal and space consider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3"/>
          <a:stretch/>
        </p:blipFill>
        <p:spPr>
          <a:xfrm>
            <a:off x="1981080" y="388620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"/>
          <p:cNvPicPr/>
          <p:nvPr/>
        </p:nvPicPr>
        <p:blipFill>
          <a:blip r:embed="rId14"/>
          <a:stretch/>
        </p:blipFill>
        <p:spPr>
          <a:xfrm>
            <a:off x="4152960" y="38862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15"/>
          <a:stretch/>
        </p:blipFill>
        <p:spPr>
          <a:xfrm>
            <a:off x="6324480" y="388620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8" descr=""/>
          <p:cNvPicPr/>
          <p:nvPr/>
        </p:nvPicPr>
        <p:blipFill>
          <a:blip r:embed="rId16"/>
          <a:stretch/>
        </p:blipFill>
        <p:spPr>
          <a:xfrm>
            <a:off x="876240" y="38862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"/>
          <p:cNvPicPr/>
          <p:nvPr/>
        </p:nvPicPr>
        <p:blipFill>
          <a:blip r:embed="rId17"/>
          <a:stretch/>
        </p:blipFill>
        <p:spPr>
          <a:xfrm>
            <a:off x="3048120" y="38862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18"/>
          <a:stretch/>
        </p:blipFill>
        <p:spPr>
          <a:xfrm>
            <a:off x="5219640" y="38862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19"/>
          <a:stretch/>
        </p:blipFill>
        <p:spPr>
          <a:xfrm>
            <a:off x="7353360" y="3886200"/>
            <a:ext cx="647640" cy="520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91"/>
          <p:cNvSpPr/>
          <p:nvPr/>
        </p:nvSpPr>
        <p:spPr>
          <a:xfrm>
            <a:off x="914400" y="6019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che regularly returns to the Producer’s master site to ingest new versions as they become available. All versions are p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396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97C2-D9C3-4900-A165-9F19F8779F39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7"/>
          <p:cNvSpPr/>
          <p:nvPr/>
        </p:nvSpPr>
        <p:spPr>
          <a:xfrm>
            <a:off x="1836720" y="25542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"/>
          <p:cNvPicPr/>
          <p:nvPr/>
        </p:nvPicPr>
        <p:blipFill>
          <a:blip r:embed="rId2"/>
          <a:stretch/>
        </p:blipFill>
        <p:spPr>
          <a:xfrm>
            <a:off x="838080" y="21337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"/>
          <p:cNvPicPr/>
          <p:nvPr/>
        </p:nvPicPr>
        <p:blipFill>
          <a:blip r:embed="rId3"/>
          <a:stretch/>
        </p:blipFill>
        <p:spPr>
          <a:xfrm>
            <a:off x="1828800" y="327672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"/>
          <p:cNvPicPr/>
          <p:nvPr/>
        </p:nvPicPr>
        <p:blipFill>
          <a:blip r:embed="rId4"/>
          <a:stretch/>
        </p:blipFill>
        <p:spPr>
          <a:xfrm>
            <a:off x="3657600" y="22860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1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12" descr=""/>
          <p:cNvPicPr/>
          <p:nvPr/>
        </p:nvPicPr>
        <p:blipFill>
          <a:blip r:embed="rId6"/>
          <a:stretch/>
        </p:blipFill>
        <p:spPr>
          <a:xfrm>
            <a:off x="5410080" y="16765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3" descr=""/>
          <p:cNvPicPr/>
          <p:nvPr/>
        </p:nvPicPr>
        <p:blipFill>
          <a:blip r:embed="rId7"/>
          <a:stretch/>
        </p:blipFill>
        <p:spPr>
          <a:xfrm>
            <a:off x="7010280" y="30481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14" descr=""/>
          <p:cNvPicPr/>
          <p:nvPr/>
        </p:nvPicPr>
        <p:blipFill>
          <a:blip r:embed="rId8"/>
          <a:stretch/>
        </p:blipFill>
        <p:spPr>
          <a:xfrm>
            <a:off x="6019920" y="48006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5" descr=""/>
          <p:cNvPicPr/>
          <p:nvPr/>
        </p:nvPicPr>
        <p:blipFill>
          <a:blip r:embed="rId9"/>
          <a:stretch/>
        </p:blipFill>
        <p:spPr>
          <a:xfrm>
            <a:off x="1523880" y="48769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6" descr=""/>
          <p:cNvPicPr/>
          <p:nvPr/>
        </p:nvPicPr>
        <p:blipFill>
          <a:blip r:embed="rId10"/>
          <a:stretch/>
        </p:blipFill>
        <p:spPr>
          <a:xfrm>
            <a:off x="4724280" y="548640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7" descr=""/>
          <p:cNvPicPr/>
          <p:nvPr/>
        </p:nvPicPr>
        <p:blipFill>
          <a:blip r:embed="rId11"/>
          <a:stretch/>
        </p:blipFill>
        <p:spPr>
          <a:xfrm>
            <a:off x="5257800" y="327672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8" descr=""/>
          <p:cNvPicPr/>
          <p:nvPr/>
        </p:nvPicPr>
        <p:blipFill>
          <a:blip r:embed="rId12"/>
          <a:stretch/>
        </p:blipFill>
        <p:spPr>
          <a:xfrm>
            <a:off x="7924680" y="1828800"/>
            <a:ext cx="648000" cy="520560"/>
          </a:xfrm>
          <a:prstGeom prst="rect">
            <a:avLst/>
          </a:prstGeom>
          <a:ln w="0">
            <a:noFill/>
          </a:ln>
        </p:spPr>
      </p:pic>
      <p:cxnSp>
        <p:nvCxnSpPr>
          <p:cNvPr id="409" name="Curved Connector 22"/>
          <p:cNvCxnSpPr/>
          <p:nvPr/>
        </p:nvCxnSpPr>
        <p:spPr>
          <a:xfrm flipH="1" rot="16200000">
            <a:off x="1494360" y="2619000"/>
            <a:ext cx="686520" cy="62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0" name="Curved Connector 24"/>
          <p:cNvCxnSpPr/>
          <p:nvPr/>
        </p:nvCxnSpPr>
        <p:spPr>
          <a:xfrm flipV="1">
            <a:off x="2476080" y="2590560"/>
            <a:ext cx="1105560" cy="94680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1" name="Curved Connector 28"/>
          <p:cNvCxnSpPr/>
          <p:nvPr/>
        </p:nvCxnSpPr>
        <p:spPr>
          <a:xfrm flipV="1">
            <a:off x="4343400" y="1980720"/>
            <a:ext cx="991440" cy="534240"/>
          </a:xfrm>
          <a:prstGeom prst="curvedConnector5">
            <a:avLst>
              <a:gd name="adj1" fmla="val 49981"/>
              <a:gd name="adj2" fmla="val 49966"/>
              <a:gd name="adj3" fmla="val 49981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2" name="Curved Connector 30"/>
          <p:cNvCxnSpPr/>
          <p:nvPr/>
        </p:nvCxnSpPr>
        <p:spPr>
          <a:xfrm rot="5400000">
            <a:off x="1561320" y="4152600"/>
            <a:ext cx="838800" cy="30564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3" name="Curved Connector 32"/>
          <p:cNvCxnSpPr/>
          <p:nvPr/>
        </p:nvCxnSpPr>
        <p:spPr>
          <a:xfrm flipH="1" flipV="1" rot="5400000">
            <a:off x="3161160" y="3466440"/>
            <a:ext cx="1372320" cy="229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4" name="Curved Connector 34"/>
          <p:cNvCxnSpPr/>
          <p:nvPr/>
        </p:nvCxnSpPr>
        <p:spPr>
          <a:xfrm>
            <a:off x="2476440" y="3536640"/>
            <a:ext cx="953280" cy="10674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5" name="Curved Connector 36"/>
          <p:cNvCxnSpPr/>
          <p:nvPr/>
        </p:nvCxnSpPr>
        <p:spPr>
          <a:xfrm flipV="1">
            <a:off x="4076280" y="3580920"/>
            <a:ext cx="1105560" cy="102312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6" name="Shape 39"/>
          <p:cNvCxnSpPr/>
          <p:nvPr/>
        </p:nvCxnSpPr>
        <p:spPr>
          <a:xfrm>
            <a:off x="4343400" y="2590560"/>
            <a:ext cx="1239120" cy="686520"/>
          </a:xfrm>
          <a:prstGeom prst="curvedConnector2">
            <a:avLst/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7" name="Curved Connector 41"/>
          <p:cNvCxnSpPr/>
          <p:nvPr/>
        </p:nvCxnSpPr>
        <p:spPr>
          <a:xfrm>
            <a:off x="1486080" y="2393640"/>
            <a:ext cx="2095920" cy="19764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8" name="Curved Connector 43"/>
          <p:cNvCxnSpPr/>
          <p:nvPr/>
        </p:nvCxnSpPr>
        <p:spPr>
          <a:xfrm flipH="1" rot="16200000">
            <a:off x="428400" y="3457440"/>
            <a:ext cx="2134440" cy="705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19" name="Curved Connector 45"/>
          <p:cNvCxnSpPr/>
          <p:nvPr/>
        </p:nvCxnSpPr>
        <p:spPr>
          <a:xfrm>
            <a:off x="2171880" y="5136840"/>
            <a:ext cx="2553120" cy="6102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0" name="Curved Connector 47"/>
          <p:cNvCxnSpPr/>
          <p:nvPr/>
        </p:nvCxnSpPr>
        <p:spPr>
          <a:xfrm flipH="1" rot="16200000">
            <a:off x="4089240" y="4527000"/>
            <a:ext cx="62316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1" name="Curved Connector 49"/>
          <p:cNvCxnSpPr/>
          <p:nvPr/>
        </p:nvCxnSpPr>
        <p:spPr>
          <a:xfrm flipH="1" rot="16200000">
            <a:off x="5524560" y="3924000"/>
            <a:ext cx="838800" cy="762480"/>
          </a:xfrm>
          <a:prstGeom prst="curvedConnector5">
            <a:avLst>
              <a:gd name="adj1" fmla="val 49978"/>
              <a:gd name="adj2" fmla="val 49976"/>
              <a:gd name="adj3" fmla="val 49978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2" name="Curved Connector 51"/>
          <p:cNvCxnSpPr/>
          <p:nvPr/>
        </p:nvCxnSpPr>
        <p:spPr>
          <a:xfrm flipV="1">
            <a:off x="5905080" y="3307680"/>
            <a:ext cx="11055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3" name="Curved Connector 53"/>
          <p:cNvCxnSpPr/>
          <p:nvPr/>
        </p:nvCxnSpPr>
        <p:spPr>
          <a:xfrm flipH="1" rot="16200000">
            <a:off x="6107760" y="1822320"/>
            <a:ext cx="851760" cy="16009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4" name="Curved Connector 55"/>
          <p:cNvCxnSpPr/>
          <p:nvPr/>
        </p:nvCxnSpPr>
        <p:spPr>
          <a:xfrm rot="10800000">
            <a:off x="6057360" y="1936080"/>
            <a:ext cx="18673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5" name="Shape 57"/>
          <p:cNvCxnSpPr/>
          <p:nvPr/>
        </p:nvCxnSpPr>
        <p:spPr>
          <a:xfrm rot="5400000">
            <a:off x="7508160" y="2587320"/>
            <a:ext cx="870840" cy="572040"/>
          </a:xfrm>
          <a:prstGeom prst="curvedConnector2">
            <a:avLst/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6" name="Shape 59"/>
          <p:cNvCxnSpPr/>
          <p:nvPr/>
        </p:nvCxnSpPr>
        <p:spPr>
          <a:xfrm rot="5400000">
            <a:off x="6136560" y="2967840"/>
            <a:ext cx="2622960" cy="1562760"/>
          </a:xfrm>
          <a:prstGeom prst="curvedConnector2">
            <a:avLst/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7" name="Curved Connector 61"/>
          <p:cNvCxnSpPr/>
          <p:nvPr/>
        </p:nvCxnSpPr>
        <p:spPr>
          <a:xfrm flipV="1">
            <a:off x="5371920" y="5060160"/>
            <a:ext cx="64836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8" name="Curved Connector 64"/>
          <p:cNvCxnSpPr/>
          <p:nvPr/>
        </p:nvCxnSpPr>
        <p:spPr>
          <a:xfrm flipV="1">
            <a:off x="2171880" y="4571640"/>
            <a:ext cx="1181520" cy="565920"/>
          </a:xfrm>
          <a:prstGeom prst="curvedConnector5">
            <a:avLst>
              <a:gd name="adj1" fmla="val 49984"/>
              <a:gd name="adj2" fmla="val 49968"/>
              <a:gd name="adj3" fmla="val 49984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29" name="Curved Connector 66"/>
          <p:cNvCxnSpPr/>
          <p:nvPr/>
        </p:nvCxnSpPr>
        <p:spPr>
          <a:xfrm>
            <a:off x="4076640" y="4603680"/>
            <a:ext cx="1867680" cy="426240"/>
          </a:xfrm>
          <a:prstGeom prst="curvedConnector5">
            <a:avLst>
              <a:gd name="adj1" fmla="val 49990"/>
              <a:gd name="adj2" fmla="val 49957"/>
              <a:gd name="adj3" fmla="val 4999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30" name="Curved Connector 68"/>
          <p:cNvCxnSpPr/>
          <p:nvPr/>
        </p:nvCxnSpPr>
        <p:spPr>
          <a:xfrm flipH="1" flipV="1" rot="5400000">
            <a:off x="6218640" y="3704400"/>
            <a:ext cx="1220040" cy="9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sp>
        <p:nvSpPr>
          <p:cNvPr id="431" name="TextBox 84"/>
          <p:cNvSpPr/>
          <p:nvPr/>
        </p:nvSpPr>
        <p:spPr>
          <a:xfrm>
            <a:off x="609480" y="6019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aches are conn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433" name="Slide Number Placeholder 4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6923-BF78-4F74-BF35-71097891464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1836720" y="2554200"/>
            <a:ext cx="28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8" descr=""/>
          <p:cNvPicPr/>
          <p:nvPr/>
        </p:nvPicPr>
        <p:blipFill>
          <a:blip r:embed="rId2"/>
          <a:stretch/>
        </p:blipFill>
        <p:spPr>
          <a:xfrm>
            <a:off x="841320" y="2133720"/>
            <a:ext cx="646200" cy="5173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"/>
          <p:cNvPicPr/>
          <p:nvPr/>
        </p:nvPicPr>
        <p:blipFill>
          <a:blip r:embed="rId3"/>
          <a:stretch/>
        </p:blipFill>
        <p:spPr>
          <a:xfrm>
            <a:off x="1828800" y="327672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"/>
          <p:cNvPicPr/>
          <p:nvPr/>
        </p:nvPicPr>
        <p:blipFill>
          <a:blip r:embed="rId4"/>
          <a:stretch/>
        </p:blipFill>
        <p:spPr>
          <a:xfrm>
            <a:off x="3657600" y="22860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"/>
          <p:cNvPicPr/>
          <p:nvPr/>
        </p:nvPicPr>
        <p:blipFill>
          <a:blip r:embed="rId5"/>
          <a:stretch/>
        </p:blipFill>
        <p:spPr>
          <a:xfrm>
            <a:off x="3429000" y="43434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"/>
          <p:cNvPicPr/>
          <p:nvPr/>
        </p:nvPicPr>
        <p:blipFill>
          <a:blip r:embed="rId6"/>
          <a:stretch/>
        </p:blipFill>
        <p:spPr>
          <a:xfrm>
            <a:off x="5410080" y="16765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3" descr=""/>
          <p:cNvPicPr/>
          <p:nvPr/>
        </p:nvPicPr>
        <p:blipFill>
          <a:blip r:embed="rId7"/>
          <a:stretch/>
        </p:blipFill>
        <p:spPr>
          <a:xfrm>
            <a:off x="7010280" y="304812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"/>
          <p:cNvPicPr/>
          <p:nvPr/>
        </p:nvPicPr>
        <p:blipFill>
          <a:blip r:embed="rId8"/>
          <a:stretch/>
        </p:blipFill>
        <p:spPr>
          <a:xfrm>
            <a:off x="6019920" y="480060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"/>
          <p:cNvPicPr/>
          <p:nvPr/>
        </p:nvPicPr>
        <p:blipFill>
          <a:blip r:embed="rId9"/>
          <a:stretch/>
        </p:blipFill>
        <p:spPr>
          <a:xfrm>
            <a:off x="1523880" y="4876920"/>
            <a:ext cx="646200" cy="517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"/>
          <p:cNvPicPr/>
          <p:nvPr/>
        </p:nvPicPr>
        <p:blipFill>
          <a:blip r:embed="rId10"/>
          <a:stretch/>
        </p:blipFill>
        <p:spPr>
          <a:xfrm>
            <a:off x="4724280" y="5486400"/>
            <a:ext cx="648000" cy="5205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"/>
          <p:cNvPicPr/>
          <p:nvPr/>
        </p:nvPicPr>
        <p:blipFill>
          <a:blip r:embed="rId11"/>
          <a:stretch/>
        </p:blipFill>
        <p:spPr>
          <a:xfrm>
            <a:off x="5257800" y="3276720"/>
            <a:ext cx="647640" cy="5205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"/>
          <p:cNvPicPr/>
          <p:nvPr/>
        </p:nvPicPr>
        <p:blipFill>
          <a:blip r:embed="rId12"/>
          <a:stretch/>
        </p:blipFill>
        <p:spPr>
          <a:xfrm>
            <a:off x="7924680" y="1828800"/>
            <a:ext cx="648000" cy="520560"/>
          </a:xfrm>
          <a:prstGeom prst="rect">
            <a:avLst/>
          </a:prstGeom>
          <a:ln w="0">
            <a:noFill/>
          </a:ln>
        </p:spPr>
      </p:pic>
      <p:cxnSp>
        <p:nvCxnSpPr>
          <p:cNvPr id="446" name="Curved Connector 22"/>
          <p:cNvCxnSpPr/>
          <p:nvPr/>
        </p:nvCxnSpPr>
        <p:spPr>
          <a:xfrm flipH="1" rot="16200000">
            <a:off x="1494360" y="2619000"/>
            <a:ext cx="686520" cy="62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47" name="Curved Connector 24"/>
          <p:cNvCxnSpPr/>
          <p:nvPr/>
        </p:nvCxnSpPr>
        <p:spPr>
          <a:xfrm flipV="1">
            <a:off x="2476080" y="2590560"/>
            <a:ext cx="1105560" cy="94680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48" name="Curved Connector 28"/>
          <p:cNvCxnSpPr/>
          <p:nvPr/>
        </p:nvCxnSpPr>
        <p:spPr>
          <a:xfrm flipV="1">
            <a:off x="4343400" y="1980720"/>
            <a:ext cx="991440" cy="534240"/>
          </a:xfrm>
          <a:prstGeom prst="curvedConnector5">
            <a:avLst>
              <a:gd name="adj1" fmla="val 49981"/>
              <a:gd name="adj2" fmla="val 49966"/>
              <a:gd name="adj3" fmla="val 49981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49" name="Curved Connector 30"/>
          <p:cNvCxnSpPr/>
          <p:nvPr/>
        </p:nvCxnSpPr>
        <p:spPr>
          <a:xfrm rot="5400000">
            <a:off x="1561320" y="4152600"/>
            <a:ext cx="838800" cy="30564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0" name="Curved Connector 32"/>
          <p:cNvCxnSpPr/>
          <p:nvPr/>
        </p:nvCxnSpPr>
        <p:spPr>
          <a:xfrm flipH="1" flipV="1" rot="5400000">
            <a:off x="3161160" y="3466440"/>
            <a:ext cx="1372320" cy="229320"/>
          </a:xfrm>
          <a:prstGeom prst="curvedConnector5">
            <a:avLst>
              <a:gd name="adj1" fmla="val 49986"/>
              <a:gd name="adj2" fmla="val 50000"/>
              <a:gd name="adj3" fmla="val 49986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1" name="Curved Connector 34"/>
          <p:cNvCxnSpPr/>
          <p:nvPr/>
        </p:nvCxnSpPr>
        <p:spPr>
          <a:xfrm>
            <a:off x="2476440" y="3536640"/>
            <a:ext cx="953280" cy="10674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2" name="Curved Connector 36"/>
          <p:cNvCxnSpPr/>
          <p:nvPr/>
        </p:nvCxnSpPr>
        <p:spPr>
          <a:xfrm flipV="1">
            <a:off x="4076280" y="3580920"/>
            <a:ext cx="1105560" cy="1023120"/>
          </a:xfrm>
          <a:prstGeom prst="curvedConnector5">
            <a:avLst>
              <a:gd name="adj1" fmla="val 50000"/>
              <a:gd name="adj2" fmla="val 49982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3" name="Shape 39"/>
          <p:cNvCxnSpPr/>
          <p:nvPr/>
        </p:nvCxnSpPr>
        <p:spPr>
          <a:xfrm>
            <a:off x="4343400" y="2590560"/>
            <a:ext cx="1239120" cy="686520"/>
          </a:xfrm>
          <a:prstGeom prst="curvedConnector2">
            <a:avLst/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4" name="Curved Connector 41"/>
          <p:cNvCxnSpPr/>
          <p:nvPr/>
        </p:nvCxnSpPr>
        <p:spPr>
          <a:xfrm>
            <a:off x="1486080" y="2393640"/>
            <a:ext cx="2095920" cy="19764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5" name="Curved Connector 43"/>
          <p:cNvCxnSpPr/>
          <p:nvPr/>
        </p:nvCxnSpPr>
        <p:spPr>
          <a:xfrm flipH="1" rot="16200000">
            <a:off x="428400" y="3457440"/>
            <a:ext cx="2134440" cy="705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6" name="Curved Connector 45"/>
          <p:cNvCxnSpPr/>
          <p:nvPr/>
        </p:nvCxnSpPr>
        <p:spPr>
          <a:xfrm>
            <a:off x="2171880" y="5136840"/>
            <a:ext cx="2553120" cy="61020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7" name="Curved Connector 47"/>
          <p:cNvCxnSpPr/>
          <p:nvPr/>
        </p:nvCxnSpPr>
        <p:spPr>
          <a:xfrm flipH="1" rot="16200000">
            <a:off x="4089240" y="4527000"/>
            <a:ext cx="623160" cy="129600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8" name="Curved Connector 49"/>
          <p:cNvCxnSpPr/>
          <p:nvPr/>
        </p:nvCxnSpPr>
        <p:spPr>
          <a:xfrm flipH="1" rot="16200000">
            <a:off x="5524560" y="3924000"/>
            <a:ext cx="838800" cy="762480"/>
          </a:xfrm>
          <a:prstGeom prst="curvedConnector5">
            <a:avLst>
              <a:gd name="adj1" fmla="val 49978"/>
              <a:gd name="adj2" fmla="val 49976"/>
              <a:gd name="adj3" fmla="val 49978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59" name="Curved Connector 51"/>
          <p:cNvCxnSpPr/>
          <p:nvPr/>
        </p:nvCxnSpPr>
        <p:spPr>
          <a:xfrm flipV="1">
            <a:off x="5905080" y="3307680"/>
            <a:ext cx="110556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0" name="Curved Connector 53"/>
          <p:cNvCxnSpPr/>
          <p:nvPr/>
        </p:nvCxnSpPr>
        <p:spPr>
          <a:xfrm flipH="1" rot="16200000">
            <a:off x="6107760" y="1822320"/>
            <a:ext cx="851760" cy="16009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1" name="Curved Connector 55"/>
          <p:cNvCxnSpPr/>
          <p:nvPr/>
        </p:nvCxnSpPr>
        <p:spPr>
          <a:xfrm rot="10800000">
            <a:off x="6057360" y="1936080"/>
            <a:ext cx="186732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2" name="Shape 57"/>
          <p:cNvCxnSpPr/>
          <p:nvPr/>
        </p:nvCxnSpPr>
        <p:spPr>
          <a:xfrm rot="5400000">
            <a:off x="7508160" y="2587320"/>
            <a:ext cx="870840" cy="572040"/>
          </a:xfrm>
          <a:prstGeom prst="curvedConnector2">
            <a:avLst/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3" name="Shape 59"/>
          <p:cNvCxnSpPr/>
          <p:nvPr/>
        </p:nvCxnSpPr>
        <p:spPr>
          <a:xfrm rot="5400000">
            <a:off x="6136560" y="2967840"/>
            <a:ext cx="2622960" cy="1562760"/>
          </a:xfrm>
          <a:prstGeom prst="curvedConnector2">
            <a:avLst/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4" name="Curved Connector 61"/>
          <p:cNvCxnSpPr/>
          <p:nvPr/>
        </p:nvCxnSpPr>
        <p:spPr>
          <a:xfrm flipV="1">
            <a:off x="5371920" y="5060160"/>
            <a:ext cx="648360" cy="686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5" name="Curved Connector 64"/>
          <p:cNvCxnSpPr/>
          <p:nvPr/>
        </p:nvCxnSpPr>
        <p:spPr>
          <a:xfrm flipV="1">
            <a:off x="2171880" y="4571640"/>
            <a:ext cx="1181520" cy="565920"/>
          </a:xfrm>
          <a:prstGeom prst="curvedConnector5">
            <a:avLst>
              <a:gd name="adj1" fmla="val 49984"/>
              <a:gd name="adj2" fmla="val 49968"/>
              <a:gd name="adj3" fmla="val 49984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6" name="Curved Connector 66"/>
          <p:cNvCxnSpPr/>
          <p:nvPr/>
        </p:nvCxnSpPr>
        <p:spPr>
          <a:xfrm>
            <a:off x="4076640" y="4603680"/>
            <a:ext cx="1867680" cy="426240"/>
          </a:xfrm>
          <a:prstGeom prst="curvedConnector5">
            <a:avLst>
              <a:gd name="adj1" fmla="val 49990"/>
              <a:gd name="adj2" fmla="val 49957"/>
              <a:gd name="adj3" fmla="val 49990"/>
            </a:avLst>
          </a:prstGeom>
          <a:ln w="47880">
            <a:solidFill>
              <a:srgbClr val="94b6d2"/>
            </a:solidFill>
            <a:miter/>
          </a:ln>
        </p:spPr>
      </p:cxnSp>
      <p:cxnSp>
        <p:nvCxnSpPr>
          <p:cNvPr id="467" name="Curved Connector 68"/>
          <p:cNvCxnSpPr/>
          <p:nvPr/>
        </p:nvCxnSpPr>
        <p:spPr>
          <a:xfrm flipH="1" flipV="1" rot="5400000">
            <a:off x="6218640" y="3704400"/>
            <a:ext cx="1220040" cy="9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47880">
            <a:solidFill>
              <a:srgbClr val="94b6d2"/>
            </a:solidFill>
            <a:miter/>
          </a:ln>
        </p:spPr>
      </p:cxnSp>
      <p:sp>
        <p:nvSpPr>
          <p:cNvPr id="468" name="TextBox 37"/>
          <p:cNvSpPr/>
          <p:nvPr/>
        </p:nvSpPr>
        <p:spPr>
          <a:xfrm>
            <a:off x="457200" y="60958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= compatible hash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20:03:09Z</dcterms:created>
  <dc:creator>Katherine Skinner</dc:creator>
  <dc:description/>
  <dc:language>en-US</dc:language>
  <cp:lastModifiedBy>Halbert, Martin</cp:lastModifiedBy>
  <cp:lastPrinted>2011-02-16T15:53:34Z</cp:lastPrinted>
  <dcterms:modified xsi:type="dcterms:W3CDTF">2011-02-16T22:06:32Z</dcterms:modified>
  <cp:revision>117</cp:revision>
  <dc:subject/>
  <dc:title>Age of Discovery</dc:title>
</cp:coreProperties>
</file>